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gif" ContentType="image/gif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7.jpeg" ContentType="image/jpeg"/>
  <Override PartName="/ppt/media/image15.gif" ContentType="image/gif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AC2-C4B9-49E1-8257-58AD78D792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DA1A-EEE2-4437-A752-4F62668E4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 F5 or use the tool bar to enter presentation mode in order to see the p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lleverywhere.com/multiple_choice_polls/LTE2OTU4MTE3MD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like, you can use this slide as a template for your own voting slides. You might use a slide like this if you feel your audience would benefit from the picture showing a text message on a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emergency during your presentation, if the poll isn't showing, navigate to this link in your web brow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B7093-7289-414D-B2B2-C73F5C6D53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 F5 or use the tool bar to enter presentation mode in order to see the p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lleverywhere.com/multiple_choice_polls/LTE3MTk2NjY5Mj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like, you can use this slide as a template for your own voting slides. You might use a slide like this if you feel your audience would benefit from the picture showing a text message on a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emergency during your presentation, if the poll isn't showing, navigate to this link in your web brow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DB93E-997F-47E1-95D5-3FE3BBC73B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 F5 or use the tool bar to enter presentation mode in order to see the po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olleverywhere.com/free_text_polls/LTEyNzk3MTg4Nz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like, you can use this slide as a template for your own voting slides. You might use a slide like this if you feel your audience would benefit from the picture showing a text message on a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emergency during your presentation, if the poll isn't showing, navigate to this link in your web brows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F97AB-3878-460B-9F1B-287757EB34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D77-0954-4E74-8379-DCA38942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3DB-6092-48F6-9123-27AB4850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66C6-FD1C-43D4-A510-DFD7FF6E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C73-A5FC-4891-A725-0891B6B9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5A6B-62E6-4C08-BE6E-1DAE19BF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C3C9-7FEA-4CB8-9034-9A4B6F71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9F76-87F3-4901-98AB-352BBC6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2ACA-3E92-472A-969E-EB7B28AA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5CBF-1405-460E-AF6C-A88F3BB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A916-D95A-4AEE-8973-2895FEE1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669D-42AC-4E94-98E9-A4F2CF7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6D9-7EB3-44E2-ABD2-FDC5C05E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8927-B663-4D73-A130-453C38C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E62-3879-4AAA-91F5-C980210D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E2A-3BEF-4416-9360-4703F4EA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581F-D539-4F5B-B20F-4725C146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6F8C-9A42-4261-89E7-A1BF6489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A9A-4C6C-4EFC-B908-D5427FC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161-8C8B-4BF7-9927-CCBB98B5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9939-F03C-4562-826B-D7199FF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FA2-2B5D-401C-91EF-C0D4B129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528-0B9D-4959-80D7-A4C966B6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ED2F-64A7-4D36-AF66-1D099EEB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E89-3AF9-452E-91E9-9B5DB5A1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2D53-BBC9-4655-823C-76BEBFE014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5E8E-3167-498D-98FA-4002233F2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7A2C-365A-4BCE-B8D9-163D96F1CEB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9ECF-3324-43A1-BA31-D03A487EC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chnology for the Administra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to the Fu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educationwithkris.wikispace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z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Content Placeholder 19" descr="prezi.jpg"/>
          <p:cNvPicPr/>
          <p:nvPr/>
        </p:nvPicPr>
        <p:blipFill>
          <a:blip r:embed="rId1"/>
          <a:srcRect l="0" t="-37161" r="0" b="-3716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fferent way to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ip Came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ilities end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10" descr="Camera-01-june"/>
          <p:cNvPicPr/>
          <p:nvPr/>
        </p:nvPicPr>
        <p:blipFill>
          <a:blip r:embed="rId1"/>
          <a:stretch/>
        </p:blipFill>
        <p:spPr>
          <a:xfrm>
            <a:off x="1030320" y="1295280"/>
            <a:ext cx="3084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oto.c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Animto.c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15840" y="1089000"/>
          <a:ext cx="7844040" cy="59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089000"/>
                    <a:ext cx="7844040" cy="59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WW.Delicious.c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apple"/>
          <p:cNvPicPr/>
          <p:nvPr/>
        </p:nvPicPr>
        <p:blipFill>
          <a:blip r:embed="rId1"/>
          <a:stretch/>
        </p:blipFill>
        <p:spPr>
          <a:xfrm>
            <a:off x="5108400" y="1600200"/>
            <a:ext cx="3252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Delicio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cious is a social networking website that helps educators organize and share useful websi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Deliciou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what you have found to be help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useful web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all of your and you colleagues bookmarks in one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easy to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g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an ac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or 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Google Lego 50th Anniversary Inspiration by manfrys"/>
          <p:cNvPicPr/>
          <p:nvPr/>
        </p:nvPicPr>
        <p:blipFill>
          <a:blip r:embed="rId1"/>
          <a:stretch/>
        </p:blipFill>
        <p:spPr>
          <a:xfrm>
            <a:off x="4495680" y="2408400"/>
            <a:ext cx="426744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og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762120" y="1158840"/>
          <a:ext cx="7619760" cy="57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58840"/>
                    <a:ext cx="761976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ice thre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Presenting the head(banger)phones at the ITP Winter Show 2008 by leesean"/>
          <p:cNvPicPr/>
          <p:nvPr/>
        </p:nvPicPr>
        <p:blipFill>
          <a:blip r:embed="rId1"/>
          <a:stretch/>
        </p:blipFill>
        <p:spPr>
          <a:xfrm>
            <a:off x="4724280" y="23050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urpose of the Cour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to motivate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motivate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to make us more 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 easy to use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icethre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36360"/>
          <a:ext cx="9599760" cy="784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360"/>
                    <a:ext cx="9599760" cy="784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Picture 5" descr="flex_guy"/>
          <p:cNvPicPr/>
          <p:nvPr/>
        </p:nvPicPr>
        <p:blipFill>
          <a:blip r:embed="rId1"/>
          <a:stretch/>
        </p:blipFill>
        <p:spPr>
          <a:xfrm>
            <a:off x="380880" y="1523880"/>
            <a:ext cx="3191040" cy="457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granny1"/>
          <p:cNvPicPr/>
          <p:nvPr/>
        </p:nvPicPr>
        <p:blipFill>
          <a:blip r:embed="rId2"/>
          <a:stretch/>
        </p:blipFill>
        <p:spPr>
          <a:xfrm>
            <a:off x="5410080" y="1600200"/>
            <a:ext cx="3098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-pod Touches in the Classroo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Content Placeholder 3" descr="ipod.jpg"/>
          <p:cNvPicPr/>
          <p:nvPr/>
        </p:nvPicPr>
        <p:blipFill>
          <a:blip r:embed="rId1"/>
          <a:srcRect l="-29543" t="0" r="-295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’s Next???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6" descr="Future Or Bust! by Vermin Inc"/>
          <p:cNvPicPr/>
          <p:nvPr/>
        </p:nvPicPr>
        <p:blipFill>
          <a:blip r:embed="rId1"/>
          <a:stretch/>
        </p:blipFill>
        <p:spPr>
          <a:xfrm>
            <a:off x="2819520" y="1219320"/>
            <a:ext cx="3525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effective technology must be easy to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nforce the Cirricul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mart Board U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Rounded Rectangle 7"/>
          <p:cNvSpPr/>
          <p:nvPr/>
        </p:nvSpPr>
        <p:spPr>
          <a:xfrm>
            <a:off x="-1722600" y="3722760"/>
            <a:ext cx="1630440" cy="2057400"/>
          </a:xfrm>
          <a:custGeom>
            <a:avLst/>
            <a:gdLst>
              <a:gd name="textAreaLeft" fmla="*/ 54000 w 1630440"/>
              <a:gd name="textAreaRight" fmla="*/ 1576440 w 1630440"/>
              <a:gd name="textAreaTop" fmla="*/ 54000 h 2057400"/>
              <a:gd name="textAreaBottom" fmla="*/ 2003400 h 2057400"/>
            </a:gdLst>
            <a:ahLst/>
            <a:rect l="textAreaLeft" t="textAreaTop" r="textAreaRight" b="textAreaBottom"/>
            <a:pathLst>
              <a:path w="21600" h="27255">
                <a:moveTo>
                  <a:pt x="2450" y="0"/>
                </a:moveTo>
                <a:arcTo wR="2450" hR="2450" stAng="16200000" swAng="-5400000"/>
                <a:lnTo>
                  <a:pt x="0" y="24805"/>
                </a:lnTo>
                <a:arcTo wR="2450" hR="2450" stAng="10800000" swAng="-5400000"/>
                <a:lnTo>
                  <a:pt x="19150" y="27255"/>
                </a:lnTo>
                <a:arcTo wR="2450" hR="2450" stAng="5400000" swAng="-5400000"/>
                <a:lnTo>
                  <a:pt x="21600" y="2450"/>
                </a:lnTo>
                <a:arcTo wR="2450" hR="2450" stAng="0" swAng="-5400000"/>
                <a:close/>
              </a:path>
            </a:pathLst>
          </a:cu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n’t forget: You can copy-paste this slide into other presentations, and move or resize the po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9"/>
          <p:cNvSpPr/>
          <p:nvPr/>
        </p:nvSpPr>
        <p:spPr>
          <a:xfrm>
            <a:off x="-1722600" y="2971800"/>
            <a:ext cx="163044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phone_image.jpg"/>
          <p:cNvPicPr/>
          <p:nvPr/>
        </p:nvPicPr>
        <p:blipFill>
          <a:blip r:embed="rId1"/>
          <a:stretch/>
        </p:blipFill>
        <p:spPr>
          <a:xfrm>
            <a:off x="7254720" y="4098960"/>
            <a:ext cx="18892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ShockwaveFlash1"/>
          <p:cNvGraphicFramePr/>
          <p:nvPr/>
        </p:nvGraphicFramePr>
        <p:xfrm>
          <a:off x="196920" y="1920960"/>
          <a:ext cx="6796080" cy="45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20960"/>
                    <a:ext cx="6796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-1722600" y="3722760"/>
            <a:ext cx="1630440" cy="2057400"/>
          </a:xfrm>
          <a:custGeom>
            <a:avLst/>
            <a:gdLst>
              <a:gd name="textAreaLeft" fmla="*/ 54000 w 1630440"/>
              <a:gd name="textAreaRight" fmla="*/ 1576440 w 1630440"/>
              <a:gd name="textAreaTop" fmla="*/ 54000 h 2057400"/>
              <a:gd name="textAreaBottom" fmla="*/ 2003400 h 2057400"/>
            </a:gdLst>
            <a:ahLst/>
            <a:rect l="textAreaLeft" t="textAreaTop" r="textAreaRight" b="textAreaBottom"/>
            <a:pathLst>
              <a:path w="21600" h="27255">
                <a:moveTo>
                  <a:pt x="2450" y="0"/>
                </a:moveTo>
                <a:arcTo wR="2450" hR="2450" stAng="16200000" swAng="-5400000"/>
                <a:lnTo>
                  <a:pt x="0" y="24805"/>
                </a:lnTo>
                <a:arcTo wR="2450" hR="2450" stAng="10800000" swAng="-5400000"/>
                <a:lnTo>
                  <a:pt x="19150" y="27255"/>
                </a:lnTo>
                <a:arcTo wR="2450" hR="2450" stAng="5400000" swAng="-5400000"/>
                <a:lnTo>
                  <a:pt x="21600" y="2450"/>
                </a:lnTo>
                <a:arcTo wR="2450" hR="2450" stAng="0" swAng="-5400000"/>
                <a:close/>
              </a:path>
            </a:pathLst>
          </a:cu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n’t forget: You can copy-paste this slide into other presentations, and move or resize the po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9"/>
          <p:cNvSpPr/>
          <p:nvPr/>
        </p:nvSpPr>
        <p:spPr>
          <a:xfrm>
            <a:off x="-1722600" y="2971800"/>
            <a:ext cx="163044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6" descr="phone_image.jpg"/>
          <p:cNvPicPr/>
          <p:nvPr/>
        </p:nvPicPr>
        <p:blipFill>
          <a:blip r:embed="rId1"/>
          <a:stretch/>
        </p:blipFill>
        <p:spPr>
          <a:xfrm>
            <a:off x="7254720" y="4098960"/>
            <a:ext cx="18892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ShockwaveFlash1"/>
          <p:cNvGraphicFramePr/>
          <p:nvPr/>
        </p:nvGraphicFramePr>
        <p:xfrm>
          <a:off x="196920" y="1920960"/>
          <a:ext cx="6796080" cy="45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20960"/>
                    <a:ext cx="6796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ing te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-1722600" y="3722760"/>
            <a:ext cx="1630440" cy="2057400"/>
          </a:xfrm>
          <a:custGeom>
            <a:avLst/>
            <a:gdLst>
              <a:gd name="textAreaLeft" fmla="*/ 54000 w 1630440"/>
              <a:gd name="textAreaRight" fmla="*/ 1576440 w 1630440"/>
              <a:gd name="textAreaTop" fmla="*/ 54000 h 2057400"/>
              <a:gd name="textAreaBottom" fmla="*/ 2003400 h 2057400"/>
            </a:gdLst>
            <a:ahLst/>
            <a:rect l="textAreaLeft" t="textAreaTop" r="textAreaRight" b="textAreaBottom"/>
            <a:pathLst>
              <a:path w="21600" h="27255">
                <a:moveTo>
                  <a:pt x="2450" y="0"/>
                </a:moveTo>
                <a:arcTo wR="2450" hR="2450" stAng="16200000" swAng="-5400000"/>
                <a:lnTo>
                  <a:pt x="0" y="24805"/>
                </a:lnTo>
                <a:arcTo wR="2450" hR="2450" stAng="10800000" swAng="-5400000"/>
                <a:lnTo>
                  <a:pt x="19150" y="27255"/>
                </a:lnTo>
                <a:arcTo wR="2450" hR="2450" stAng="5400000" swAng="-5400000"/>
                <a:lnTo>
                  <a:pt x="21600" y="2450"/>
                </a:lnTo>
                <a:arcTo wR="2450" hR="2450" stAng="0" swAng="-5400000"/>
                <a:close/>
              </a:path>
            </a:pathLst>
          </a:cu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on’t forget: You can copy-paste this slide into other presentations, and move or resize the pol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ight Arrow 9"/>
          <p:cNvSpPr/>
          <p:nvPr/>
        </p:nvSpPr>
        <p:spPr>
          <a:xfrm>
            <a:off x="-1722600" y="2971800"/>
            <a:ext cx="163044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phone_image.jpg"/>
          <p:cNvPicPr/>
          <p:nvPr/>
        </p:nvPicPr>
        <p:blipFill>
          <a:blip r:embed="rId1"/>
          <a:stretch/>
        </p:blipFill>
        <p:spPr>
          <a:xfrm>
            <a:off x="7254720" y="4098960"/>
            <a:ext cx="1889280" cy="27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ShockwaveFlash1"/>
          <p:cNvGraphicFramePr/>
          <p:nvPr/>
        </p:nvGraphicFramePr>
        <p:xfrm>
          <a:off x="196920" y="1920960"/>
          <a:ext cx="6796080" cy="450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20" y="1920960"/>
                    <a:ext cx="679608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t’s Create a Text Po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Content Placeholder 6" descr="polls.jpg"/>
          <p:cNvPicPr/>
          <p:nvPr/>
        </p:nvPicPr>
        <p:blipFill>
          <a:blip r:embed="rId1"/>
          <a:srcRect l="0" t="-36041" r="0" b="-3604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olleverywher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Content Placeholder 4" descr="dj.jpg"/>
          <p:cNvPicPr/>
          <p:nvPr/>
        </p:nvPicPr>
        <p:blipFill>
          <a:blip r:embed="rId1"/>
          <a:srcRect l="0" t="-34490" r="0" b="-3449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ay to collabo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ropbo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Content Placeholder 4" descr="box.jpg"/>
          <p:cNvPicPr/>
          <p:nvPr/>
        </p:nvPicPr>
        <p:blipFill>
          <a:blip r:embed="rId1"/>
          <a:srcRect l="0" t="-21500" r="0" b="-21500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1T14:53:09Z</dcterms:created>
  <dc:creator>Sean Eby</dc:creator>
  <dc:description/>
  <dc:language>en-US</dc:language>
  <cp:lastModifiedBy>lmadmin</cp:lastModifiedBy>
  <dcterms:modified xsi:type="dcterms:W3CDTF">2010-08-01T16:23:04Z</dcterms:modified>
  <cp:revision>27</cp:revision>
  <dc:subject/>
  <dc:title>Slide 1</dc:title>
</cp:coreProperties>
</file>